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3600" y="-504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63600" y="8818200"/>
            <a:ext cx="30351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6DEE8B3-2994-422B-9662-BD4600BA29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0920" y="88408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7CFCD6D6-C28C-4AF6-A2ED-C1840254BF8A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2132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BFB3678-0CED-457F-BB39-021BB4AB571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06400"/>
            <a:ext cx="513396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9EB093B-A013-41A7-A7DA-A65E3C8A4B4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C3B387A-B6E6-45EC-8315-3D95E5222E9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C911CAB-435D-47DB-98E4-1FC6AB045B8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3963960" y="8818560"/>
            <a:ext cx="303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741D73F-5D02-4888-B1C1-99140271865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40" y="6566040"/>
            <a:ext cx="1809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23684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460840" y="6564240"/>
            <a:ext cx="36831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A56D50F5-44D6-4717-A694-63B319C6E27E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3496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99540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4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992160" y="7048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38280" y="6567480"/>
            <a:ext cx="754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uly 200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92720" y="6564240"/>
            <a:ext cx="3841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Introduction to Personal Process - Module 1 - </a:t>
            </a:r>
            <a:fld id="{0C582AD8-4DAF-49B6-A453-5C437FA144D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13320" y="66816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9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M02/M02%20-%20TSP%20overview.ppt" TargetMode="External"/><Relationship Id="rId2" Type="http://schemas.openxmlformats.org/officeDocument/2006/relationships/hyperlink" Target="file:///../M03/M03%20-%20Personal%20Processes.ppt" TargetMode="External"/><Relationship Id="rId3" Type="http://schemas.openxmlformats.org/officeDocument/2006/relationships/hyperlink" Target="file:///../M04/M04%20-%20Planning%201.ppt" TargetMode="External"/><Relationship Id="rId4" Type="http://schemas.openxmlformats.org/officeDocument/2006/relationships/hyperlink" Target="file:///../M05/M05%20Planning%202.ppt" TargetMode="External"/><Relationship Id="rId5" Type="http://schemas.openxmlformats.org/officeDocument/2006/relationships/hyperlink" Target="file:///../M06/M06%20Planning%203.ppt" TargetMode="External"/><Relationship Id="rId6" Type="http://schemas.openxmlformats.org/officeDocument/2006/relationships/hyperlink" Target="file:///../M07/M07Ex%20-%20Baseline%20Checkbook%20Process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96840" y="985680"/>
            <a:ext cx="731376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0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Introduction to Personal Process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200"/>
            </a:br>
            <a:r>
              <a:rPr b="0" lang="en-US" sz="4500" spc="-1" strike="noStrike">
                <a:solidFill>
                  <a:srgbClr val="39536b"/>
                </a:solidFill>
                <a:latin typeface="Arial Narrow"/>
              </a:rPr>
              <a:t>Module 1: Introduction</a:t>
            </a:r>
            <a:br>
              <a:rPr sz="5400"/>
            </a:b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036800" y="3225960"/>
            <a:ext cx="7315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rvice Mar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5840" y="164592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llowing are service marks of Carnegie Mellon Univers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Software Process</a:t>
            </a:r>
            <a:r>
              <a:rPr b="0" lang="en-US" sz="2000" spc="-1" strike="noStrike" baseline="50000">
                <a:solidFill>
                  <a:srgbClr val="39536b"/>
                </a:solidFill>
                <a:latin typeface="Arial"/>
              </a:rPr>
              <a:t>SM</a:t>
            </a:r>
            <a:r>
              <a:rPr b="0" lang="en-US" sz="2200" spc="-1" strike="noStrike" baseline="40000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</a:t>
            </a:r>
            <a:r>
              <a:rPr b="0" lang="en-US" sz="2000" spc="-1" strike="noStrike" baseline="50000">
                <a:solidFill>
                  <a:srgbClr val="39536b"/>
                </a:solidFill>
                <a:latin typeface="Arial"/>
              </a:rPr>
              <a:t>SM</a:t>
            </a:r>
            <a:r>
              <a:rPr b="0" lang="en-US" sz="2200" spc="-1" strike="noStrike" baseline="90000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Software Process</a:t>
            </a:r>
            <a:r>
              <a:rPr b="0" lang="en-US" sz="2000" spc="-1" strike="noStrike" baseline="50000">
                <a:solidFill>
                  <a:srgbClr val="39536b"/>
                </a:solidFill>
                <a:latin typeface="Arial"/>
              </a:rPr>
              <a:t>SM</a:t>
            </a:r>
            <a:r>
              <a:rPr b="0" lang="en-US" sz="2200" spc="-1" strike="noStrike" baseline="50000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</a:t>
            </a:r>
            <a:r>
              <a:rPr b="0" lang="en-US" sz="2000" spc="-1" strike="noStrike" baseline="50000">
                <a:solidFill>
                  <a:srgbClr val="39536b"/>
                </a:solidFill>
                <a:latin typeface="Arial"/>
              </a:rPr>
              <a:t>SM</a:t>
            </a:r>
            <a:r>
              <a:rPr b="0" lang="en-US" sz="2200" spc="-1" strike="noStrike" baseline="50000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llowing are registered trademarks of Carnegie Mellon University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pability Maturity Model</a:t>
            </a:r>
            <a:r>
              <a:rPr b="0" lang="en-US" sz="2200" spc="-1" strike="noStrike" baseline="30000">
                <a:solidFill>
                  <a:srgbClr val="39536b"/>
                </a:solidFill>
                <a:latin typeface="Arial"/>
              </a:rPr>
              <a:t>®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MM</a:t>
            </a:r>
            <a:r>
              <a:rPr b="0" lang="en-US" sz="2200" spc="-1" strike="noStrike" baseline="30000">
                <a:solidFill>
                  <a:srgbClr val="39536b"/>
                </a:solidFill>
                <a:latin typeface="Arial"/>
              </a:rPr>
              <a:t>®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 baseline="90000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pability Maturity Model Integration</a:t>
            </a:r>
            <a:r>
              <a:rPr b="0" lang="en-US" sz="2200" spc="-1" strike="noStrike" baseline="30000">
                <a:solidFill>
                  <a:srgbClr val="39536b"/>
                </a:solidFill>
                <a:latin typeface="Arial"/>
              </a:rPr>
              <a:t>®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2840" indent="-1933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MMI</a:t>
            </a:r>
            <a:r>
              <a:rPr b="0" lang="en-US" sz="2200" spc="-1" strike="noStrike" baseline="30000">
                <a:solidFill>
                  <a:srgbClr val="39536b"/>
                </a:solidFill>
                <a:latin typeface="Arial"/>
              </a:rPr>
              <a:t>®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 baseline="90000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69668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purpo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roductions and Expect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(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o you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expec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Purpo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course will introduce you to the Team Software Process (TSP) and Personal Software Process (PSP), disciplined methods for producing quality software in a timely mann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introduce you to the fundamentals of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purpose and stru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planning and track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of the TSP support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give you an overview of the elements of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es, measures, forms, and standar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lication to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chedule - Day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02960" y="1609200"/>
            <a:ext cx="741348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8:30  -   8:45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Module 1:  Introduction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8:45  -   9:45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Module 2:  The Team Software Process 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9:45  - 10:3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Module 3:  Personal Processe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Exercise 3:  Maris’ Checkbook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10:30  - 11:0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11:00  - 12:0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Module 4:  Planning I - Measure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Exercise 4:  Size Measure Selection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12:00  -   1:0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1:00  -   1:45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c2108"/>
                </a:solidFill>
                <a:uFillTx/>
                <a:latin typeface="Arial"/>
                <a:hlinkClick r:id="rId4"/>
              </a:rPr>
              <a:t>Module 5:  Planning II - Estimating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Exercise 5:  Relative Size Measure Table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1:45  -   2:3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c2108"/>
                </a:solidFill>
                <a:uFillTx/>
                <a:latin typeface="Arial"/>
                <a:hlinkClick r:id="rId5"/>
              </a:rPr>
              <a:t>Module 6:  Planning III - Scheduling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2:30  -   3:0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3:00  -   3:3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Exercise 6:  Scheduling the Book Writing Proces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3:30  -   4:30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9c2108"/>
                </a:solidFill>
                <a:uFillTx/>
                <a:latin typeface="Arial"/>
                <a:hlinkClick r:id="rId6"/>
              </a:rPr>
              <a:t>Exercise 7:  The Baseline Checkbook Proces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4:30 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End of day 1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chedule - Day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02960" y="1736280"/>
            <a:ext cx="741348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8:30  -  9:0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Module 7:  Quality I - Managing Defec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9:00  - 10:0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Module 8:  Reviews and Checklist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Exercise 8:  Review Checklist for the Checkbook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0:00  -  10:30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0:30  -  12:0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Exercise 9:  Using the Revised Checkbook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Module 9:  Quality II - Evolving the Personal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2:00  -   1:0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:00  -   2:0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Application:  Building a Personal Process Script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:00  -   2:3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:30  -   3:1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SP Tool Demonstr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1027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:15  -   3:3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Module 10:  Summary and Course Conclus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5279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ment of complex systems relies on the integrated efforts of many disciplines working together as a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formance will be governed by the discipline and skills of the team and each of its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eam using high-quality processes, such as PSP and TSP, will consistently produce the best resul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course prepares you to be a member of such a team. 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22:13:36Z</dcterms:created>
  <dc:creator>Jim Over</dc:creator>
  <dc:description/>
  <cp:keywords/>
  <dc:language>en-US</dc:language>
  <cp:lastModifiedBy>wrn_loc_adm</cp:lastModifiedBy>
  <cp:lastPrinted>2000-01-10T19:53:52Z</cp:lastPrinted>
  <dcterms:modified xsi:type="dcterms:W3CDTF">2018-09-06T00:16:00Z</dcterms:modified>
  <cp:revision>207</cp:revision>
  <dc:subject/>
  <dc:title>No Slide Title</dc:title>
</cp:coreProperties>
</file>